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DA9-B1BC-4179-820C-FFB61DEE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385-6B03-4659-B547-860FCB35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656-4C47-4139-8A71-DDD9E33E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1BD-00AC-4312-AEFA-AF0FD55A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82B-0558-438F-8D86-3609227A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F11-464E-4C17-84E6-9A0F0DFF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E1F-51D0-462E-8215-0737FB9E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536-B0EE-4803-9CEF-EE34DE67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B7C-454F-4148-A0E7-BDD7F87F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F89-3371-4C72-8B75-64F43845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28D-85B8-4DAB-B070-4F648736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CF6-FAD0-4F82-AAEC-CF5FC19C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F59B-8D90-44E4-9168-FC35F12B4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-457200"/>
            <a:ext cx="9144000" cy="7315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TE SI ANIM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TEJATE DE LE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ROMA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RCI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ta delicata, creste p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prafete intinse in ‘’Poi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rciselor’’, atragand numeros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ubitori ai naturi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-305280"/>
            <a:ext cx="9144000" cy="7162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Ras" descr=""/>
          <p:cNvPicPr/>
          <p:nvPr/>
        </p:nvPicPr>
        <p:blipFill>
          <a:blip r:embed="rId1"/>
          <a:stretch/>
        </p:blipFill>
        <p:spPr>
          <a:xfrm>
            <a:off x="-609480" y="-609480"/>
            <a:ext cx="1013436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533520" y="-380880"/>
            <a:ext cx="10058400" cy="7772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RSUL CARPAT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ieste pe stanci, in grote s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n desisurile de moliz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n locuri izolate, cum s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urile de va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80880" y="-305280"/>
            <a:ext cx="952488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urs" descr=""/>
          <p:cNvPicPr/>
          <p:nvPr/>
        </p:nvPicPr>
        <p:blipFill>
          <a:blip r:embed="rId1"/>
          <a:stretch/>
        </p:blipFill>
        <p:spPr>
          <a:xfrm>
            <a:off x="-762120" y="-990720"/>
            <a:ext cx="9906120" cy="861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609840" y="-686160"/>
            <a:ext cx="9867960" cy="754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ULTURUL PLESU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i construieste cuibul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incul stancilor sau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pacii inalti. Se hranes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 cadav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533520" y="-914400"/>
            <a:ext cx="9677520" cy="7772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Vultur_gryphus" descr=""/>
          <p:cNvPicPr/>
          <p:nvPr/>
        </p:nvPicPr>
        <p:blipFill>
          <a:blip r:embed="rId1"/>
          <a:stretch/>
        </p:blipFill>
        <p:spPr>
          <a:xfrm>
            <a:off x="-914400" y="-990720"/>
            <a:ext cx="1005840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457200" y="-686160"/>
            <a:ext cx="9601200" cy="754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COSUL DE MU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te considerat podoa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ntilor Carpati, isi construie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ibul langa trunchiul arboril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-si hraneste puii cu semi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fructe de padure sau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guri de br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751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686160" y="-1143360"/>
            <a:ext cx="10363320" cy="754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CocosDeMunte" descr=""/>
          <p:cNvPicPr/>
          <p:nvPr/>
        </p:nvPicPr>
        <p:blipFill>
          <a:blip r:embed="rId1"/>
          <a:stretch/>
        </p:blipFill>
        <p:spPr>
          <a:xfrm>
            <a:off x="-1143000" y="-1295280"/>
            <a:ext cx="102870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457200" y="-304920"/>
            <a:ext cx="9982080" cy="7467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ROP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boara foarte rar, nu se asa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ciodata in copaci. Se hraneste c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stari, seminte, insecte.O m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tem intalni numai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pia Dunari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838440" y="-990720"/>
            <a:ext cx="10287000" cy="7848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dropia" descr=""/>
          <p:cNvPicPr/>
          <p:nvPr/>
        </p:nvPicPr>
        <p:blipFill>
          <a:blip r:embed="rId1"/>
          <a:stretch/>
        </p:blipFill>
        <p:spPr>
          <a:xfrm>
            <a:off x="-800280" y="-1066680"/>
            <a:ext cx="10439640" cy="79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762480" y="-609840"/>
            <a:ext cx="10439640" cy="7467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LICAN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sare migratoare, care cuibare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Delta Dunarii, la marginea stufari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rilor. Daca este tulburat in perio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 clocire si impiedicat sa vina la cui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i mult de o ora, el paraseste pent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tdeauna cuibul. La noi in tara 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la cea mai mare colonie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licani din toata Europ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457200" y="-457200"/>
            <a:ext cx="9601200" cy="7315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narcisa%202" descr=""/>
          <p:cNvPicPr/>
          <p:nvPr/>
        </p:nvPicPr>
        <p:blipFill>
          <a:blip r:embed="rId1"/>
          <a:stretch/>
        </p:blipFill>
        <p:spPr>
          <a:xfrm>
            <a:off x="-495360" y="-1295280"/>
            <a:ext cx="10134720" cy="84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533520" y="-533520"/>
            <a:ext cx="9677520" cy="7391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elican" descr=""/>
          <p:cNvPicPr/>
          <p:nvPr/>
        </p:nvPicPr>
        <p:blipFill>
          <a:blip r:embed="rId1"/>
          <a:stretch/>
        </p:blipFill>
        <p:spPr>
          <a:xfrm>
            <a:off x="-762120" y="-838080"/>
            <a:ext cx="990612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533520" y="-381240"/>
            <a:ext cx="9753840" cy="754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ERIALUL  A F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LIZAT DE INV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CIU MARIO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. GEN.’’LUCIAN BLAGA’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VA JUD. HUNEDO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-268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533520" y="-762480"/>
            <a:ext cx="9677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LOAREA DE CO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alnita pe stancile muntilor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 imbie cu minunatele flo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be, cu petale catifel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-457200"/>
            <a:ext cx="9144000" cy="7315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loare-de-colt-comentariile-nu-isi-au-rostul-8_3" descr=""/>
          <p:cNvPicPr/>
          <p:nvPr/>
        </p:nvPicPr>
        <p:blipFill>
          <a:blip r:embed="rId1"/>
          <a:stretch/>
        </p:blipFill>
        <p:spPr>
          <a:xfrm>
            <a:off x="-533520" y="-1066680"/>
            <a:ext cx="9677520" cy="79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-533520"/>
            <a:ext cx="9144000" cy="7391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JORUL ROMANES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ta stravech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alnita in padu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457200" y="-762480"/>
            <a:ext cx="960120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ujor_romanesc-paeonia_peregrina" descr=""/>
          <p:cNvPicPr/>
          <p:nvPr/>
        </p:nvPicPr>
        <p:blipFill>
          <a:blip r:embed="rId1"/>
          <a:stretch/>
        </p:blipFill>
        <p:spPr>
          <a:xfrm>
            <a:off x="-990720" y="-838080"/>
            <a:ext cx="1013472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80880" y="-380880"/>
            <a:ext cx="9524880" cy="7238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PRA NEAG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doaba Muntilor Carpati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alnita pe varfurile ce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i inalte si prapastioa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ieste in turme care cuprin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 la 6 la 30 de cap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apra%20negra" descr=""/>
          <p:cNvPicPr/>
          <p:nvPr/>
        </p:nvPicPr>
        <p:blipFill>
          <a:blip r:embed="rId1"/>
          <a:stretch/>
        </p:blipFill>
        <p:spPr>
          <a:xfrm>
            <a:off x="-838080" y="-685800"/>
            <a:ext cx="10287000" cy="79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S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ieste in padurile de deal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iua sta ascuns in desisuri,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orburile mari, din apropie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rumurilor umblate;noapte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curge zeci de km in caut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rane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19:38:41Z</dcterms:created>
  <dc:creator>pc</dc:creator>
  <dc:description/>
  <dc:language>en-US</dc:language>
  <cp:lastModifiedBy>pc</cp:lastModifiedBy>
  <dcterms:modified xsi:type="dcterms:W3CDTF">2007-05-07T20:54:22Z</dcterms:modified>
  <cp:revision>23</cp:revision>
  <dc:subject/>
  <dc:title>PowerPoint Presentation</dc:title>
</cp:coreProperties>
</file>